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092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5960" y="4644720"/>
            <a:ext cx="48751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92883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65600" y="92883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37F334A-C0B6-4900-9C75-19BCC911DAD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765600" y="92883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FE59516-23A5-45A6-9D09-3AB28F34C65D}" type="slidenum">
              <a:rPr b="0" lang="pl-P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85960" y="4644720"/>
            <a:ext cx="487512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A2B2-2C51-4DE2-BE15-E78BAC8FC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4C1A-FCD3-407E-A4C9-68D957C0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8A7D-94E0-4740-B61E-44F9277A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0DC9-9603-4A5F-81F0-71547B6F1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7956-3A98-4655-97F3-6AED414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1508-24A2-40BE-98B1-DD8DA5E3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E5B4-6246-4761-A8A4-0101FB7D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58379-1E25-4B32-8EB9-85BB7CC4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D2E3-BEF5-484C-88BE-4A6D1658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4818-F9C3-40F9-A9A6-69DE6878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5A73-76DB-46EC-A381-32101538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AB78-3477-461B-A238-6D32017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lo1_logoKPK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tlo_niebieskie"/>
          <p:cNvPicPr/>
          <p:nvPr/>
        </p:nvPicPr>
        <p:blipFill>
          <a:blip r:embed="rId3"/>
          <a:stretch/>
        </p:blipFill>
        <p:spPr>
          <a:xfrm>
            <a:off x="0" y="0"/>
            <a:ext cx="914400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Lucida Sans Unicode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228600" y="-228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8" descr="tlo_zolte"/>
          <p:cNvPicPr/>
          <p:nvPr/>
        </p:nvPicPr>
        <p:blipFill>
          <a:blip r:embed="rId4"/>
          <a:stretch/>
        </p:blipFill>
        <p:spPr>
          <a:xfrm>
            <a:off x="0" y="6629400"/>
            <a:ext cx="9144000" cy="257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6431-B740-4FA3-BE77-D34CA639BF0D}" type="slidenum"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3995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8AF-5F9C-48D7-A8F9-B2E1E2A22C19}" type="slidenum"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02"/>
          <p:cNvSpPr/>
          <p:nvPr/>
        </p:nvSpPr>
        <p:spPr>
          <a:xfrm>
            <a:off x="0" y="645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962600" cy="50101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611280" y="333360"/>
            <a:ext cx="802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29000"/>
                </a:solidFill>
                <a:latin typeface="Arial"/>
              </a:rPr>
              <a:t>Матеріально-технічна база та основні розробк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00"/>
                </a:solidFill>
                <a:latin typeface="Arial"/>
              </a:rPr>
              <a:t>наукова лабораторі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84360" y="1052640"/>
            <a:ext cx="80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e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cc"/>
                </a:solidFill>
                <a:latin typeface="Arial"/>
              </a:rPr>
              <a:t>нелінійних давачів імені професор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.Ковальського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E3D-BD25-4796-BE2E-98C8256611AD}" type="slidenum"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534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E00-A380-40CC-A559-48D56027B016}" type="slidenum"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2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74C0-FF5A-4D86-B724-CF70E441DE40}" type="slidenum"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6:52:56Z</dcterms:created>
  <dc:creator>Andrzej Sławiński</dc:creator>
  <dc:description/>
  <dc:language>en-US</dc:language>
  <cp:lastModifiedBy>Hadzaman</cp:lastModifiedBy>
  <dcterms:modified xsi:type="dcterms:W3CDTF">2020-06-26T09:06:39Z</dcterms:modified>
  <cp:revision>520</cp:revision>
  <dc:subject/>
  <dc:title>Programy ramowe a innowacyjnośc energetyki</dc:title>
</cp:coreProperties>
</file>